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ipdn102.wav" ContentType="audio/x-wav"/>
  <Override PartName="/ppt/media/highchime.wav" ContentType="audio/x-wav"/>
  <Override PartName="/ppt/media/bserie06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82D-3A36-4DAF-8811-AC3465A9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16B-055E-4BEC-8A1C-1E5D74DE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870-ED32-4EFA-BBA3-944D7EDA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9DF-C005-4058-9533-0332A8F2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44F-C0B7-4F84-A96D-5D90587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D72-3862-447D-943C-8339442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A9C-C18F-4F8D-8245-5418E6A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128-D618-4807-B0F8-94F96DBD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A71-0FA1-42CB-8DB7-65318441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239-CC95-46FE-AF45-7D8D8C0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17C-AE73-4CBC-B473-81CD23FE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6FB-A07E-4BD5-BF02-FF8ED871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563-3279-44E0-8BE9-47EBA6B5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dn102.wav"/><Relationship Id="rId3" Type="http://schemas.openxmlformats.org/officeDocument/2006/relationships/audio" Target="../media/highchim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7920" y="1203480"/>
                <a:ext cx="3076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30160" y="3284640"/>
                <a:ext cx="2165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14520" y="4264200"/>
                <a:ext cx="2411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8960" y="4794120"/>
                <a:ext cx="12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494160" y="331632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7800" y="4284720"/>
                <a:ext cx="21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82760" y="4829040"/>
                <a:ext cx="1306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602240" y="3324240"/>
                <a:ext cx="447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425920" y="4264200"/>
                <a:ext cx="2043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400720" y="4808520"/>
                <a:ext cx="1265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18240" y="3313080"/>
                <a:ext cx="40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981840" y="1703520"/>
                <a:ext cx="1608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201080" y="2538360"/>
                <a:ext cx="1331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291440" y="3386160"/>
                <a:ext cx="1195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5600" y="1203480"/>
                <a:ext cx="3122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51040" y="3284640"/>
                <a:ext cx="2124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33240" y="4292640"/>
                <a:ext cx="2372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93880" y="4879800"/>
                <a:ext cx="163332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30640" y="3295800"/>
                <a:ext cx="853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206880" y="4284720"/>
                <a:ext cx="208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340080" y="4873680"/>
                <a:ext cx="163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419720" y="3305160"/>
                <a:ext cx="814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446800" y="4264200"/>
                <a:ext cx="2001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581800" y="483876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94320" y="3333600"/>
                <a:ext cx="853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016760" y="2538360"/>
                <a:ext cx="1700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064280" y="3371760"/>
                <a:ext cx="1563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6360" y="1231920"/>
                <a:ext cx="2525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6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95480" y="3284640"/>
                <a:ext cx="1635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73200" y="4272120"/>
                <a:ext cx="2290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93880" y="4879800"/>
                <a:ext cx="163332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30640" y="3316320"/>
                <a:ext cx="853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67000" y="4251240"/>
                <a:ext cx="19638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503520" y="487368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22760" y="3305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527800" y="4214880"/>
                <a:ext cx="18381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745240" y="4838760"/>
                <a:ext cx="1305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97360" y="3333600"/>
                <a:ext cx="447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199280" y="2538360"/>
                <a:ext cx="13334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224840" y="3371760"/>
                <a:ext cx="1241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7160" y="1246320"/>
                <a:ext cx="33526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7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7720" y="3284640"/>
                <a:ext cx="2330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9280" y="4300560"/>
                <a:ext cx="2986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76440" y="4965840"/>
                <a:ext cx="2041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54560" y="3295800"/>
                <a:ext cx="406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313080" y="4295880"/>
                <a:ext cx="2658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17840" y="4930920"/>
                <a:ext cx="2001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64160" y="33242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83360" y="4245120"/>
                <a:ext cx="25318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37160" y="4896000"/>
                <a:ext cx="2038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56240" y="3333600"/>
                <a:ext cx="7318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32600" y="1703520"/>
                <a:ext cx="1654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45360" y="2538360"/>
                <a:ext cx="1241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86600" y="3371760"/>
                <a:ext cx="1517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98640" y="5583240"/>
                <a:ext cx="1265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738600" y="5559480"/>
                <a:ext cx="1225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669000" y="5522760"/>
                <a:ext cx="1592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4840" y="1246320"/>
                <a:ext cx="3398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7200" y="3284640"/>
                <a:ext cx="2371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0200" y="4300560"/>
                <a:ext cx="3025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3560" y="4965840"/>
                <a:ext cx="2408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51160" y="3295800"/>
                <a:ext cx="81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92560" y="4295880"/>
                <a:ext cx="2700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378240" y="4930920"/>
                <a:ext cx="2082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419720" y="3305160"/>
                <a:ext cx="814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43760" y="4245120"/>
                <a:ext cx="26128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16640" y="4896000"/>
                <a:ext cx="2079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495760" y="3333600"/>
                <a:ext cx="854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26320" y="1703520"/>
                <a:ext cx="20667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5320" y="2538360"/>
                <a:ext cx="1701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64280" y="3371760"/>
                <a:ext cx="1563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816120" y="5583240"/>
                <a:ext cx="1631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35200" y="5559480"/>
                <a:ext cx="1633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649920" y="5522760"/>
                <a:ext cx="1632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3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Find three ordered pairs for each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43080" y="1246320"/>
                <a:ext cx="3122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679320" y="2114640"/>
          <a:ext cx="5772240" cy="1996920"/>
        </p:xfrm>
        <a:graphic>
          <a:graphicData uri="http://schemas.openxmlformats.org/drawingml/2006/table">
            <a:tbl>
              <a:tblPr/>
              <a:tblGrid>
                <a:gridCol w="2387880"/>
                <a:gridCol w="1166760"/>
                <a:gridCol w="1154160"/>
                <a:gridCol w="1063440"/>
              </a:tblGrid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81200" y="2390760"/>
                <a:ext cx="449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49240" y="3284640"/>
                <a:ext cx="2125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224160" y="2336760"/>
                <a:ext cx="735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29240" y="2338560"/>
                <a:ext cx="40788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65760" y="2351160"/>
                <a:ext cx="32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82600" y="4300560"/>
                <a:ext cx="27795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7880" y="4965840"/>
                <a:ext cx="20397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33680" y="3295800"/>
                <a:ext cx="447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14600" y="4295880"/>
                <a:ext cx="24559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622760" y="3305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265800" y="4245120"/>
                <a:ext cx="23684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719680" y="3314880"/>
                <a:ext cx="4064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10280" y="1703520"/>
                <a:ext cx="1698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199280" y="2538360"/>
                <a:ext cx="13334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248600" y="3371760"/>
                <a:ext cx="1195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77760" y="5583240"/>
                <a:ext cx="1306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800520" y="496404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724800" y="4929120"/>
                <a:ext cx="1306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3381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7, 13 – 3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3/1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4T18:53:40Z</dcterms:modified>
  <cp:revision>116</cp:revision>
  <dc:subject/>
  <dc:title>Slide 1</dc:title>
</cp:coreProperties>
</file>